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E9D-EB63-49BC-BB4D-AC0E428E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EDBE-754B-452C-9EBF-4C02F663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01423-A5F6-41D2-8F2D-892D81E5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8DFED-D723-4D65-B811-8DD18F80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AB562-3CF2-4089-AADA-D6AF6950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57D15-8773-4EE2-A3E5-832F927D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FC71C-5D8B-4CFF-B7AD-8DA4006F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4022C-9165-4FEE-96C0-404371CC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A5593-AFDA-4D73-B3C5-8264644E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A31ED-BE74-4B5F-8D87-36532A8C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A9D04-7395-4E89-B03D-32623A1E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4FBC4-DDF2-4372-877B-60F3F2B2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A14-4136-4854-A689-9388F2A8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39EA6-BA9E-4FA8-B1F6-AF402271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B0DEF-B52C-4206-AEDF-E444DBFF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09651-F72C-498B-9EB9-907B644F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EE94A-CB4C-49C7-9C4A-289CFE2C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734BD-BCEE-4195-80DD-33242A48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56060-F99C-49D7-866A-71DDE3BA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6453E-15C4-490F-ABF7-29E33AD1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5E506-B34D-431D-95E3-8B6F9924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AB9D3-2A4D-4B33-9D88-74904E60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7A1C2-17EB-48E7-819F-D67BC010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D0D6-D198-4DF9-8713-6A59DC09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FEEA8-9C16-4BF2-A8C1-02D8B397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73632-F491-48A4-B117-2733246B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60DA3-463A-41F3-81D3-3A1AC22A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73FD5-73FC-4A96-AAFC-E457D982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C7A86-D6A4-4D36-A674-1D8982C8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22CCF-25D6-4BFA-8309-F8A3F5B0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4B0B9-592D-4E1D-AA18-3A38BAE7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00B93-781E-43E9-A2D8-8698A0A0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1BA95-B1B4-448F-B096-63410A8D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03184-412B-46FA-8BDC-520E3E12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C52C-6780-4A31-8735-A3C27CE6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25116-4674-41C3-AFD8-BB7C44A1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D6D6D-E9CE-4FD3-9B52-60BC9C36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7C8CF-60F2-450D-B681-31429A6E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C7607-5419-4E4D-A1BB-3BE43130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64D63-F9FB-4E2E-8B98-E5AA6044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0A9ED-8C8B-4A91-A420-8B89F43F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272D3-7AA7-4F37-A521-7115DF41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DF495-33BC-4896-AA08-0DD47B75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C25A1-1127-4A3D-A8B1-A5E24988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D35CB-B967-4AE5-A42B-9B40B23C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3FAB-DBC0-4DF3-BF22-7DAE79A1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1FF10-C8D7-48C6-B731-61B528F7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43FB2-BE63-43C2-90BE-1DD53CAF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CF94E-6B09-4B69-B18E-C0C37C2B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B06BB-1A02-466C-9D7B-EE2B6730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BD675-4097-4BE1-B1B2-405BD769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1546-B454-470D-8D4F-06341E67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0495-16EC-4384-A360-6AC0C52E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F543-736F-49D7-8D77-DB596686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204A-75FC-408B-8784-FD18F29E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8010-9765-48EA-9B2E-E1F24A05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7999-BFB5-449A-9AFB-3F43C49E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2284-44F6-4E33-BFE7-159E21C4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2791-10A8-44FA-A5EB-B7CEE149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1D94-73A9-4160-8272-927D782F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95D4-0D9C-4F63-B56F-8B115A25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408F-4C67-4E14-91EB-34BF54EA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EFA1-AD63-4CF5-BE29-32FF477B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1701A-7B1A-446D-A22D-58011984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E97A7-2A96-4588-BFF9-E1EBE215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FD2C6-64BA-43AC-A603-D27D00C2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9D04B-4B51-4EA2-B860-8373BDC8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13E-86D6-4B0D-875D-4765204C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7054E-9365-45D3-A61A-9954D341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7FD3A-FC8C-4D9D-96DD-0EBCB06E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DB960-007D-4EB0-BE9D-747B5AA7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66AB-3AAF-487B-BD9C-2C87450B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0BB40-76CE-4666-A25F-1C6068B3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E4A05-7BD5-42EA-B542-6CDB6FF1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60865-F26A-4F44-AD73-5AA7663B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710A2-DC78-4073-AF9C-8FE1E42A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0FE04-DC3F-44BB-8C08-D70BD3F9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1A3EA-B38D-48B8-8BFC-FBFF7757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FD2-710B-4683-9F71-DD40553B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04FB-9B47-4752-A7FF-6275C7C6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54480-C47E-4EE2-A0EE-9AACDDB3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01F70-26B4-4F94-A823-D479EDE0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1FAC6-35B9-4E52-AE80-E17274D8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5ABC9-8D8D-4490-B913-E017A7A0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2B62F-44C3-40DE-9343-C5BD0759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0DAAA-559E-4921-AD30-9CA3EB0B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B1EE3-36CE-4B7A-A6BD-57DFD988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196E8-B4E7-4280-BBE2-AEFF76EE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9BCF4-9D83-4D07-8D38-43B94164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AC8-EF99-404E-9111-382F4538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19339-06ED-4B3D-9F50-1338EA57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8268E-0654-4781-BFF8-9B705523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8CFB6-B842-479C-9D62-73399BB9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A4806-D04C-4CB7-BD5F-08E4052C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77B6B-11F9-4D48-B518-C9045DC0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444BA-44BE-4EE8-BEC7-45F8CFC3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6285C-6FC1-40F2-89B9-CA1C9302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86380-F5C0-42CC-85E4-7AB0C0D2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A2579-0382-43A4-BD1F-B1BE4B64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FC67C-C533-45B2-8C71-8C4B1FC9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24B-921B-4E2F-9BF0-8C51B208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30AAC-5A1A-4ED2-8AB0-1FD9AD2F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7E145-6E6F-4DA3-967F-A3D2882A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3F27C-14BB-4EBB-85E6-08363E34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0B1C0-DAE5-43F3-B87D-BAFB15F2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3266D-812F-4893-9870-69847140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E6035-201E-4AE1-BC09-1492AC2A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F6F4C-1C4F-4F83-B27B-F3AF7644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08B46-0824-4200-8F13-564FB42D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FC372-2364-494E-AC15-5C937D1D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76DD5-8314-498F-94FB-234CFA25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312-410E-4773-8EF1-44043718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EC2DF-427F-415A-82FC-1E87226F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81D01-1224-4FD2-9BD2-2FA831E5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E24F4-3991-4F3A-AF3D-A678AB84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A8869-AA0B-4F47-9D8F-26D38CCE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F797C-19D5-4E2D-947A-E6821AED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281EA-232A-456C-A45C-8F906304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E9E79-B333-40EE-909D-887775B7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51997-4885-4B00-ADC5-E15431F5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09038-C14C-43A0-8469-9C8DC0A7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5D1DA-2473-4A5C-A37C-F0CB3108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73C-2E6F-46DC-8AB2-469585BC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4B42C-DF6A-4975-A25B-74B07A83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CEEE2-5BB8-4EAB-A4FE-81F229B5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C0CEB-9DCA-4E31-AD50-0107B713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36EF4-C451-4422-BD56-3C14095D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C6D3A-487C-4665-B8FB-646F9AA6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BF047-FDFB-42D2-8D03-299E0FCD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BC215-CD5B-4027-ABC6-73A9979A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B3E9F-E056-46ED-8A4F-16F79650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7CBD4-DC18-4A39-B595-9935A411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04257-EE7D-4618-811C-822E9C75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E54-F4A3-4EF4-A9D6-8C76445E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39561-DD99-4F0A-846C-DA0C948C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3B7DB-71CB-498A-9126-2FEC4F0B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41B7B-F889-4A83-A4D3-F0D99A92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4E69C-D797-48E1-8909-EEF00A53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EA24D-F7AC-4BE8-9482-7BA09358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2C7AE-684B-4E90-AFB4-48F9F934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7E83A-C23B-4627-9A8E-90DDE033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B39BD-6E8D-442F-8E9F-1C326A91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CAA8E-0A30-4643-91C2-526CA7E1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35B8A-B0D7-4072-805C-426AE9F1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AC27-49B0-4420-BADE-83B6859DC42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7961-034A-4580-848F-81E4D527A66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36C0-23B7-41D8-8E29-BAAEBCA2567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D72E-CF8E-4394-9903-F39A0D61A83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DC83-41ED-498A-9B5D-A67692E3B46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7968-EABC-44BD-87BF-B9DF664B129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DDA6-2C2D-47A6-AB14-FF48EC8D8D9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B48D-5698-416E-B30D-ECEC2E69F1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6E8D-4E73-4767-96F8-2E5FB7EC685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4557-9009-4260-BFE7-94D6E0BFC9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0601-0DBE-444F-88FF-82F3B6ECA4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6B1D-0DE0-45ED-9CA0-E8E22B277C1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77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lm chvály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alm chvály ne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 vrúcnych sŕdc Pánovi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ď ľud jeho opäť sa zhromaždiť sm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j dnes požehna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n sám chce nám d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íl zo zdroja vôd živý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á načerpa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 vzácny ten Božie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koja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výhľad nám nehalí starostí ti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 s láskou nás k sebe zve z únavných cies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 prístavu pokoja chce všetkých vies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nes môžeme v zábleskoch poznávať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z plného pozna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žiari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u hriech nieti v ná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nohú úzkosť a sto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 víťazných piesní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nieť bude tón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 príbytkov sláv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Pán kraľ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viery zrak s dôverou preniknúť sm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z žiaľ každý stíchne i bolestný vzdy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príde Pán v slá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ých krás nebeských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2:56:45Z</dcterms:modified>
  <cp:revision>23</cp:revision>
  <dc:subject/>
  <dc:title>Je veľký náš Pán, on slávy je Kráľ Nech do všetkých strán  spev vrúcnych znie chvál.</dc:title>
</cp:coreProperties>
</file>